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14.jpeg" ContentType="image/jpeg"/>
  <Override PartName="/ppt/media/image41.jpeg" ContentType="image/jpeg"/>
  <Override PartName="/ppt/media/image5.gif" ContentType="image/gif"/>
  <Override PartName="/ppt/media/image38.jpeg" ContentType="image/jpeg"/>
  <Override PartName="/ppt/media/image39.jpeg" ContentType="image/jpeg"/>
  <Override PartName="/ppt/media/image45.jpeg" ContentType="image/jpeg"/>
  <Override PartName="/ppt/media/image36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50.png" ContentType="image/png"/>
  <Override PartName="/ppt/media/image48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8.gif" ContentType="image/gif"/>
  <Override PartName="/ppt/media/image18.jpeg" ContentType="image/jpeg"/>
  <Override PartName="/ppt/media/image10.jpeg" ContentType="image/jpeg"/>
  <Override PartName="/ppt/media/image42.jpeg" ContentType="image/jpeg"/>
  <Override PartName="/ppt/media/image2.gif" ContentType="image/gif"/>
  <Override PartName="/ppt/media/image7.gif" ContentType="image/gif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E39-2B17-4605-9798-95786CFB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79B-B573-4093-B110-382065B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CAB-5F0D-4B7C-AFCE-24A0ECB1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70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02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70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02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1DE-B349-44D8-8054-BE00F10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3DEE-5E5C-4538-B040-8F304DDE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468-ABCF-4AB8-9855-9FDE23E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501C-FE0B-418E-9C56-F224CF5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05BB-F0B5-4628-8516-40A8F75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4E12-81D0-46FF-9AB4-15ACB09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DAD3-313F-479A-9953-B0F711AD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4AB8-59C7-4A4B-96B7-CC9DEEC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AC0-21DB-4E3F-90E4-12735468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659-3BEA-422F-B6C8-C0AC73E2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252-3AAD-4416-A889-18F4BEF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8FB-82FA-4A42-9500-E0E1B09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33B1-133D-40D4-BC65-72048947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70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02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70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02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5CF1-BF40-498C-BA6D-6546A75A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553-6A8B-4917-93C8-D1F89983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D41-FDDD-48F4-A7B2-04AC0640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C27-D337-457D-B302-B922B8F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68C-14BB-40C7-9372-54F59E0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5CA-5447-4C98-BFAC-EFA8CFF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DB9-C4F3-4719-8FC3-9AEA8CA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28E-F809-44C8-A1DA-1F4129F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oor_view_clouds_hg_clr" descr=""/>
          <p:cNvPicPr/>
          <p:nvPr/>
        </p:nvPicPr>
        <p:blipFill>
          <a:blip r:embed="rId3"/>
          <a:stretch/>
        </p:blipFill>
        <p:spPr>
          <a:xfrm>
            <a:off x="7182000" y="4343400"/>
            <a:ext cx="1768320" cy="2209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4CB-F6FD-455A-B30B-CC3CE8AE38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8C4-1882-4813-A5B1-C5E26A5B9E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2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9051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Comic Sans MS"/>
              </a:rPr>
              <a:t>Mamma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G00409_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908360" cy="1589040"/>
          </a:xfrm>
          <a:prstGeom prst="rect">
            <a:avLst/>
          </a:prstGeom>
          <a:ln w="0">
            <a:noFill/>
          </a:ln>
        </p:spPr>
      </p:pic>
      <p:pic>
        <p:nvPicPr>
          <p:cNvPr id="84" name="AG00212_" descr=""/>
          <p:cNvPicPr/>
          <p:nvPr/>
        </p:nvPicPr>
        <p:blipFill>
          <a:blip r:embed="rId3"/>
          <a:stretch/>
        </p:blipFill>
        <p:spPr>
          <a:xfrm>
            <a:off x="2362320" y="5257800"/>
            <a:ext cx="1679400" cy="1131840"/>
          </a:xfrm>
          <a:prstGeom prst="rect">
            <a:avLst/>
          </a:prstGeom>
          <a:ln w="0">
            <a:noFill/>
          </a:ln>
        </p:spPr>
      </p:pic>
      <p:pic>
        <p:nvPicPr>
          <p:cNvPr id="85" name="Copy of moose[1]" descr=""/>
          <p:cNvPicPr/>
          <p:nvPr/>
        </p:nvPicPr>
        <p:blipFill>
          <a:blip r:embed="rId4"/>
          <a:stretch/>
        </p:blipFill>
        <p:spPr>
          <a:xfrm>
            <a:off x="1295280" y="3352680"/>
            <a:ext cx="121932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Copy of pandabear_eating_md_wht[1]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87" name="elephant_ear_twitch_md_wht[1]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1AF-327B-4A73-B287-7C2530044D26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onotremat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viparous or egg laying mamm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3 in exis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uck-billed platypus and two species of spiny anteaters called echid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t completely endothermic (their body temperature is lower and fluctuates more than other mamma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monotreme[1]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809880" cy="26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EB3-3425-4D03-9297-1792816F625B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rsupi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arsupials give birth to tiny immature young that crawl to a pouch on the mothers belly immediately after they are bor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lip0047" descr=""/>
          <p:cNvPicPr/>
          <p:nvPr/>
        </p:nvPicPr>
        <p:blipFill>
          <a:blip r:embed="rId2"/>
          <a:srcRect l="2555" t="3284" r="3047" b="8203"/>
          <a:stretch/>
        </p:blipFill>
        <p:spPr>
          <a:xfrm>
            <a:off x="2819520" y="3772080"/>
            <a:ext cx="4228920" cy="27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F2A-5984-43B4-864B-3AFF66ED955B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attach themselves to milk secreting nipples nursing until they are mature enough to survive outside the pouc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YoungKoalas_Australia-HangingTree_lookingBack[1]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53240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D1B-3E0F-4555-B372-B85B67930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merican Marsupia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Virginia_Opossum[1]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6553440" cy="45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9E9-8165-4C35-9188-98D2DBA263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acental Mamm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rimatePhotoGallerychimpanzees,gorillas,orang-utans,monkeys,lemurs" descr="PrimatePhotoGallerychimpanzees,gorillas,orang-utans,monkeys,lemurs.jpg"/>
          <p:cNvPicPr/>
          <p:nvPr/>
        </p:nvPicPr>
        <p:blipFill>
          <a:blip r:embed="rId2"/>
          <a:stretch/>
        </p:blipFill>
        <p:spPr>
          <a:xfrm>
            <a:off x="2743200" y="2133720"/>
            <a:ext cx="35053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900-2243-41F0-A506-E15BDA553478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 of Placent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cental mammals carry unborn young in the uterus until young can survive in the wil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xygen and nutrients are transferred from mother’s blood to baby’s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049992A[1]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30388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929-2CD7-4235-BA56-394F481F860C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acental 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placenta  is a membrane providing nutrients and waste &amp; gas exchange between the mother and developing yo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station period-is the time which mammals develop in mother’s ute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aby[1]" descr=""/>
          <p:cNvPicPr/>
          <p:nvPr/>
        </p:nvPicPr>
        <p:blipFill>
          <a:blip r:embed="rId2"/>
          <a:stretch/>
        </p:blipFill>
        <p:spPr>
          <a:xfrm>
            <a:off x="5484960" y="2057400"/>
            <a:ext cx="327960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336-50DA-4621-B036-8B07FEE60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ect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sists of 400 spe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cludes shrews and mo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mole[1]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3886200" cy="308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5791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hrew[1]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419360" cy="275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10080" y="2819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hr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906-4D6B-47BB-B8AC-D6D01339F709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ect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ost have long pointed noses that enable them to grub for insects, worms, and invertebrates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ive on ground, trees, in water, and undergroun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55A-52EF-423E-9508-3670A8B036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odent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argest mammalian order having over 2,400 spe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every continent except for Antarc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cludes squirrels, marmots, chipmunks, gophers, muskrats, mice, rats, and porcup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08-09-03" descr=""/>
          <p:cNvPicPr/>
          <p:nvPr/>
        </p:nvPicPr>
        <p:blipFill>
          <a:blip r:embed="rId2"/>
          <a:stretch/>
        </p:blipFill>
        <p:spPr>
          <a:xfrm>
            <a:off x="2895480" y="365760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5029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hipm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est%20Squirrel%20Shot[1]" descr=""/>
          <p:cNvPicPr/>
          <p:nvPr/>
        </p:nvPicPr>
        <p:blipFill>
          <a:blip r:embed="rId3"/>
          <a:stretch/>
        </p:blipFill>
        <p:spPr>
          <a:xfrm>
            <a:off x="9677520" y="49150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0CB-A788-4517-BEBA-D65BBD96B421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volution and Characteristic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20574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7920"/>
            <a:ext cx="396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mmals belong to the class Mammalia, which includes 4000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dominant land animals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004-lion[1]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65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AAD-A387-4E07-B207-1DE19A996CDE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839080" y="6400800"/>
            <a:ext cx="914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Best%20Squirrel%20Shot[1]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oripine[1]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4572000" cy="3411360"/>
          </a:xfrm>
          <a:prstGeom prst="rect">
            <a:avLst/>
          </a:prstGeom>
          <a:ln w="0">
            <a:noFill/>
          </a:ln>
        </p:spPr>
      </p:pic>
      <p:pic>
        <p:nvPicPr>
          <p:cNvPr id="151" name="marmot[1]" descr=""/>
          <p:cNvPicPr/>
          <p:nvPr/>
        </p:nvPicPr>
        <p:blipFill>
          <a:blip r:embed="rId4"/>
          <a:stretch/>
        </p:blipFill>
        <p:spPr>
          <a:xfrm>
            <a:off x="5486400" y="304920"/>
            <a:ext cx="3035160" cy="3263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orcu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m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540-0468-4719-85CE-E9E575B18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agomorph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cludes rabbits, hares, and small mountain mammals called pika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und worldwi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age-pika[1]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ahare1[1]" descr=""/>
          <p:cNvPicPr/>
          <p:nvPr/>
        </p:nvPicPr>
        <p:blipFill>
          <a:blip r:embed="rId3"/>
          <a:stretch/>
        </p:blipFill>
        <p:spPr>
          <a:xfrm>
            <a:off x="4057560" y="2847960"/>
            <a:ext cx="3078360" cy="34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5638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429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3A9-1593-45A7-9500-F2259A81E17F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agomorph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ouble row of incisors, large front teeth backed with two smaller ones, adaptation for herbivorous di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py of skull[1]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E7A-DD1F-40FD-B436-0CE1523D62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Edentat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de up of 30 living species including anteaters, armadillos, and sloth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name edentate means “without teeth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rmadillo%2032[1]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0E7-6880-42B4-B788-921E8C670231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119-Tamandua%20Anteater,%20Panama[1]" descr=""/>
          <p:cNvPicPr/>
          <p:nvPr/>
        </p:nvPicPr>
        <p:blipFill>
          <a:blip r:embed="rId2"/>
          <a:stretch/>
        </p:blipFill>
        <p:spPr>
          <a:xfrm>
            <a:off x="3657600" y="457200"/>
            <a:ext cx="5143680" cy="3695760"/>
          </a:xfrm>
          <a:prstGeom prst="rect">
            <a:avLst/>
          </a:prstGeom>
          <a:ln w="0">
            <a:noFill/>
          </a:ln>
        </p:spPr>
      </p:pic>
      <p:pic>
        <p:nvPicPr>
          <p:cNvPr id="169" name="bradypus_torquatus[1]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3352680" cy="5410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lo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95680" y="43434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te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0A3-1CE6-43B7-AB8B-9EF50B2868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dentates have adaptations for insectivorous diets, including a long, sticky tongue and clawed front pa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nteatr5[1]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3711600" cy="357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39625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teater feeding at a Termite m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2EC-E190-42A3-9427-0551CA8EC5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loths, on the other hand have continuously growing teeth as an adaptation for grinding pl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sloths[1]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6629400" cy="40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371-0B52-421E-B031-E1AC06FB23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iropte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de up of over 900 species of b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ive throughout the world except in polar enviro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Bat[1]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54864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FA9-F0AC-4BC6-8FF4-6557ADC815F7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bats are active at night and have a special way to navigate using echolocation (bouncing off high-frequency sound wav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equency of returning sound waves with the size, distance, and rate of movement of different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AG00409_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2438640" cy="15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995-C3FD-497B-A706-815C3B1E7B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iropte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ts that use echolocation have small eyes and large ea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eed on insects and have teeth specialized for such di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hanger2[1]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3750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A40-CD05-4A25-BFC2-3B85220904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s are endothermi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s have hai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Well-developed brai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mammal_fest_mammal[1]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06360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A00-EE5F-4BA0-9A0A-3D984D64FAEB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me feed on fruit and flower nectar and do not use echoloc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se bats are sometimes called flying foxes, have large eyes and keen sense of sme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ma0320_1m[1]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533376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09F-86EA-4F2A-B54F-860A997151FD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etacea and Siren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90 species of whales, dolphins, and porpoises are distributed worldwid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etaceans have fishlike bodies with forelimbs modified as flipp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Killer%20Whale[1]" descr=""/>
          <p:cNvPicPr/>
          <p:nvPr/>
        </p:nvPicPr>
        <p:blipFill>
          <a:blip r:embed="rId2"/>
          <a:stretch/>
        </p:blipFill>
        <p:spPr>
          <a:xfrm>
            <a:off x="762120" y="3219480"/>
            <a:ext cx="632448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9AD-B790-4F38-9119-FD47FC899702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etaceans divided into two groups which are toothed whales and baleen whal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oothed whales include beaked whales, sperm whales, beluga whales, narwhals, killer whales, dolphins and porpoi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w[1]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44193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BCE-13E1-4752-AB3B-CE0DD62522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Order Sirenia is made up of four species of manatees and dugo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manateeb[1]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6610320" cy="48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A93-DD80-4918-83C5-DCC2B83C19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ront limbs are flippers for swimm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renians lack hind legs but have flattened tai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dugong-melli[1]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19112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823-D676-4318-B384-2B87EBC645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arn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50 living species in carnivoria are distributed worldw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of the species mainly eat meat, which explains the n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bout 34 spe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mur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574056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C5A-B3C2-460A-9B20-0C7ADDF28E02}" type="slidenum">
              <a:t>35</a:t>
            </a:fld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me members of this order such as bears feed extensively on plant material as well as meat, so they are called omnivor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rnivores generally have long canine teeth, strong jaws, clawed to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Black%20Bear%20485020[1]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013280" cy="601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DE6-1FBF-4FC7-B6C5-9946231CEC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inniped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innipedia are water dwelling carnivores and have streamlined bod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sealslep[2]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60962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CED-0014-4D79-A9EC-964B2DE039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odactyla and Perissodacty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ngulates-hoofed mammals, classified into two orders: Artiodactyla and Perissodacty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se two classes are herbivo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y have a storage chamber in their stomach called the rumen, undergoes double dig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AG00211_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2361960" cy="20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1DF-29EC-44A7-AA0D-C8A0A2EED07C}" type="slidenum">
              <a:t>38</a:t>
            </a:fld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Ungulates with an even amount of toes make up the class Artiodactyl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artiodactyla[1]" descr=""/>
          <p:cNvPicPr/>
          <p:nvPr/>
        </p:nvPicPr>
        <p:blipFill>
          <a:blip r:embed="rId2"/>
          <a:stretch/>
        </p:blipFill>
        <p:spPr>
          <a:xfrm>
            <a:off x="1981080" y="2443320"/>
            <a:ext cx="4953240" cy="40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5F4-224C-4EAF-ADBB-194EEF7B6D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mmalian heart has 4 chamb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mmals have a muscle , the diaphragm that aids in breat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earts[1]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846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F6F-B34B-4BC5-88E8-AD5B353EE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Ungulates with an odd number of toes make up the class Perissodactyl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erissodactyla[1]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143680" cy="40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B78-3232-4FB6-AA70-8895E76794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roboscide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acterized by a boneless nose or probosci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lephants are the largest land dwellers alive today, weighing more than 6 t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opy (2) of elephant[1]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Copy (2) of elephant[1]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41444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Copy (2) of elephant[1]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141444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1B8-3FD4-4F46-9B66-A6BDEE6275CD}" type="slidenum">
              <a:t>41</a:t>
            </a:fld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modified incisors, called tusks, for digging up roots and stripping bark from branche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610120" y="624816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elephant[1]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840120" cy="42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558-E910-4F8E-96BC-B3359056F8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rim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00 living species of primates classified as prosimian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cluding lemurs, tarsiers, and lorises, or anthrop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Lemur%20485029[1]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1722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EF4-1F2D-4B44-92BE-1C3BE36B1D13}" type="slidenum">
              <a:t>43</a:t>
            </a:fld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2286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 complex brain has enabled anthropoids to develop behaviors and to live in highly organized social group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social_structure02[1]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5562720" cy="36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403-7009-4FB0-BED0-6C4718D3B2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5B5-F459-4B5F-A6D3-D8F623F7F74F}" type="slidenum">
              <a:t>45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mmals have single lower j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ost species have 4 different types of tee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isors – cut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ines – can be enlarged, pier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nassal – shearing, remove meat from b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ars - gri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wolfteeth[1]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640080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69-99E4-4A8A-9597-17BB4B079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species are viviparous, in which females carry their young until full develop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emale secrete milk from mammary glands to feed newborn you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bothumb_002[1]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5334120" cy="30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CEF-BAFB-4FF1-9ACE-E6C61D7915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wo feature that distinguish them from other invertebrates are that they all have hair and they produce mil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lioness%20nursing%20600[1]" descr=""/>
          <p:cNvPicPr/>
          <p:nvPr/>
        </p:nvPicPr>
        <p:blipFill>
          <a:blip r:embed="rId2"/>
          <a:stretch/>
        </p:blipFill>
        <p:spPr>
          <a:xfrm>
            <a:off x="1676520" y="2844720"/>
            <a:ext cx="5333760" cy="35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75E-B65B-40CE-AB0D-F5424999FCBF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 Ord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re are 19 orders of mammals in the class Mammalia in which 17 nourish unborn young in the placenta, egg laying mammals and marsup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2411886[1]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DD4-8E08-426A-A075-E9D5A78B75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notremes and Marsupi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5 percent of all mammalian species are in the orders Monotremata and Marsupialia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h30c2[1]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4389480" cy="3314880"/>
          </a:xfrm>
          <a:prstGeom prst="rect">
            <a:avLst/>
          </a:prstGeom>
          <a:ln w="0">
            <a:noFill/>
          </a:ln>
        </p:spPr>
      </p:pic>
      <p:pic>
        <p:nvPicPr>
          <p:cNvPr id="113" name="ch30c3[1]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43894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0C7-618B-4AFF-88D3-9836714C28CC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1:21:05Z</dcterms:created>
  <dc:creator>My PC</dc:creator>
  <dc:description/>
  <dc:language>en-US</dc:language>
  <cp:lastModifiedBy>Tricia</cp:lastModifiedBy>
  <dcterms:modified xsi:type="dcterms:W3CDTF">2007-07-26T14:06:31Z</dcterms:modified>
  <cp:revision>28</cp:revision>
  <dc:subject/>
  <dc:title>PowerPoint Presentation</dc:title>
</cp:coreProperties>
</file>